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97760" y="2743200"/>
            <a:ext cx="601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A VALUTAZIONE DEI RISULT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EGLI 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43200" y="990720"/>
            <a:ext cx="6108840" cy="0"/>
          </a:xfrm>
          <a:prstGeom prst="line">
            <a:avLst/>
          </a:prstGeom>
          <a:ln w="12708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662200" y="6081840"/>
            <a:ext cx="6261120" cy="0"/>
          </a:xfrm>
          <a:prstGeom prst="line">
            <a:avLst/>
          </a:prstGeom>
          <a:ln w="76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64560" y="304920"/>
            <a:ext cx="281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ucleo di 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438280" cy="685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4840" y="62485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egato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10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" y="6095880"/>
            <a:ext cx="380880" cy="3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70400" y="126684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TTA’ DI NICHEL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419720" y="3200400"/>
            <a:ext cx="441936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380880"/>
            <a:ext cx="778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’area della programmazione e dell’utilizzo 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676520"/>
            <a:ext cx="350496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1676520"/>
            <a:ext cx="175248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9560" y="1792440"/>
            <a:ext cx="108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p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11400" y="1793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2960" y="2814480"/>
            <a:ext cx="109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960" y="2209680"/>
            <a:ext cx="3476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4040" y="2585880"/>
            <a:ext cx="1028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zi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4040" y="3195720"/>
            <a:ext cx="107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5480" y="380520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egn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6840" y="2662200"/>
            <a:ext cx="130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2240" y="3495600"/>
            <a:ext cx="230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egnato/asses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1320" y="354492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3271680"/>
            <a:ext cx="130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06840" y="383688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427640"/>
            <a:ext cx="100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5640" y="4459320"/>
            <a:ext cx="119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4680" y="4410000"/>
            <a:ext cx="219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mpegnato/liquid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91680" y="445932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7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02400" y="3824280"/>
            <a:ext cx="20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rot="1944000">
            <a:off x="4725720" y="190620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Gli obiettivi di risultato ed i comportamenti organizzativi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gli apicali – la Scheda di valutazione – 1°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9498800">
            <a:off x="4497480" y="35809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38080" y="1295280"/>
          <a:ext cx="76201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32440" y="181080"/>
            <a:ext cx="640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Gli obiettivi di risultato ed i comportamenti organizzativi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degli apicali – la Scheda di valutazione – 2°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66680" y="990720"/>
          <a:ext cx="7290000" cy="58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7290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19491000">
            <a:off x="3094200" y="27144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46120" y="698400"/>
          <a:ext cx="7913520" cy="51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698400"/>
                    <a:ext cx="791352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74600" y="189000"/>
          <a:ext cx="8591400" cy="61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9000"/>
                    <a:ext cx="859140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91320" y="3276720"/>
            <a:ext cx="304776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124080"/>
            <a:ext cx="3809880" cy="1752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60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43000" y="914400"/>
          <a:ext cx="6934320" cy="72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934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605760" y="2286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 SCH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7760" y="365760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no collegati all’art.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 d.lgs 267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133720" y="152388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1676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5800" y="2895480"/>
            <a:ext cx="1768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no le attiv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ate 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aggiung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obie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16765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9360" y="3809880"/>
            <a:ext cx="2555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È l’import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ttribuita all’obbie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l’insieme dei pesi-obiettivi d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essere =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4724280"/>
            <a:ext cx="57150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0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87440" y="68580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EMPIO DI VALU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1295280"/>
          <a:ext cx="784836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836120" y="2292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7560" y="27432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" y="2292480"/>
            <a:ext cx="28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19240" y="3865680"/>
            <a:ext cx="534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go 1.  Peso =8  Valutazione =4 Totale rigo(8x 4)=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go 2.  Peso =8  Valutazione =3 Totale rigo(8x 3)=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29000" y="236232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29000" y="297180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57640" y="236232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638320" y="2895480"/>
            <a:ext cx="12956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880" y="4932360"/>
            <a:ext cx="474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La valutazione finale può oscillare tra 100 e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on una scala di valutazione di rigo tra 1 &amp;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433680" y="457200"/>
            <a:ext cx="36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 VALUTA :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dal D.lgs 286/99 Art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11280" y="950760"/>
          <a:ext cx="64897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950760"/>
                    <a:ext cx="648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914400" y="838080"/>
            <a:ext cx="7696080" cy="541044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17400">
            <a:off x="190440" y="2476080"/>
            <a:ext cx="1447560" cy="76176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533520"/>
            <a:ext cx="6959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a scheda riassuntiva della valutazio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lle prestazioni degli api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1200" y="2017800"/>
            <a:ext cx="754380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00560" y="2017800"/>
            <a:ext cx="175284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3680" y="2017800"/>
            <a:ext cx="1371600" cy="373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2520" y="2133720"/>
            <a:ext cx="108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p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120" y="2135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81480" y="21351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98760" y="2135160"/>
            <a:ext cx="177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ggiung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33200" y="213516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7040" y="2550960"/>
            <a:ext cx="751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7000" y="2927520"/>
            <a:ext cx="1684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etti/obiettiv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risul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7720" y="3765600"/>
            <a:ext cx="1726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utilizzo 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8440" y="4680000"/>
            <a:ext cx="156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rt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z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9320" y="30034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29320" y="384192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29320" y="475632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76920" y="300348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29400" y="307980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9400" y="388620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9400" y="483228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76920" y="384192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76920" y="475632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63200" y="307980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3200" y="391788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63200" y="483228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9520" y="5370480"/>
            <a:ext cx="5708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86200" y="536580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86640" y="544212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4160" y="536580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20080" y="544212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7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5200" y="651996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9498800">
            <a:off x="4669200" y="3846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li attori e le attività della valutazion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lle prestazioni individuali dei dipen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5791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*) assist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770040" y="1989000"/>
          <a:ext cx="79959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989000"/>
                    <a:ext cx="79959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3480" y="5318280"/>
            <a:ext cx="7711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80880"/>
            <a:ext cx="695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 pilastri del cont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01680" y="1427040"/>
            <a:ext cx="385920" cy="373320"/>
            <a:chOff x="1201680" y="1427040"/>
            <a:chExt cx="385920" cy="373320"/>
          </a:xfrm>
        </p:grpSpPr>
        <p:sp>
          <p:nvSpPr>
            <p:cNvPr id="49" name=""/>
            <p:cNvSpPr/>
            <p:nvPr/>
          </p:nvSpPr>
          <p:spPr>
            <a:xfrm>
              <a:off x="1312920" y="1546200"/>
              <a:ext cx="23004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201680" y="1427040"/>
            <a:ext cx="385920" cy="37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01680" y="1427040"/>
                      <a:ext cx="38592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"/>
          <p:cNvGrpSpPr/>
          <p:nvPr/>
        </p:nvGrpSpPr>
        <p:grpSpPr>
          <a:xfrm>
            <a:off x="1201680" y="2112840"/>
            <a:ext cx="385920" cy="373320"/>
            <a:chOff x="1201680" y="2112840"/>
            <a:chExt cx="385920" cy="373320"/>
          </a:xfrm>
        </p:grpSpPr>
        <p:sp>
          <p:nvSpPr>
            <p:cNvPr id="53" name=""/>
            <p:cNvSpPr/>
            <p:nvPr/>
          </p:nvSpPr>
          <p:spPr>
            <a:xfrm>
              <a:off x="1312920" y="2232000"/>
              <a:ext cx="23004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201680" y="2112840"/>
            <a:ext cx="385920" cy="37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01680" y="2112840"/>
                      <a:ext cx="38592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1201680" y="2951280"/>
            <a:ext cx="385920" cy="372960"/>
            <a:chOff x="1201680" y="2951280"/>
            <a:chExt cx="385920" cy="372960"/>
          </a:xfrm>
        </p:grpSpPr>
        <p:sp>
          <p:nvSpPr>
            <p:cNvPr id="57" name=""/>
            <p:cNvSpPr/>
            <p:nvPr/>
          </p:nvSpPr>
          <p:spPr>
            <a:xfrm>
              <a:off x="1312920" y="3070080"/>
              <a:ext cx="23004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1201680" y="2951280"/>
            <a:ext cx="385920" cy="37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01680" y="2951280"/>
                      <a:ext cx="3859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1731960" y="1427040"/>
            <a:ext cx="672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sponsabilizzazione sui progetti -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211284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ruttura tecnico-con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31960" y="2951280"/>
            <a:ext cx="5735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o di rilevazione dei 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6543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79f"/>
                </a:solidFill>
                <a:latin typeface="Arial"/>
              </a:rPr>
              <a:t>Gli obiettivi ed i comportamenti organizzativi</a:t>
            </a:r>
            <a:br>
              <a:rPr sz="2200"/>
            </a:br>
            <a:r>
              <a:rPr b="1" lang="en-US" sz="2200" spc="-1" strike="noStrike">
                <a:solidFill>
                  <a:srgbClr val="00279f"/>
                </a:solidFill>
                <a:latin typeface="Arial"/>
              </a:rPr>
              <a:t>dei dipend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65120" y="987480"/>
          <a:ext cx="8345520" cy="56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987480"/>
                    <a:ext cx="834552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rot="20055000">
            <a:off x="3473640" y="34491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li attori e le attività della valutazion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lle prestazione collettiva dei dipendenti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art. 17 c. 2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5120" y="2438280"/>
          <a:ext cx="80694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438280"/>
                    <a:ext cx="80694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246240" y="189000"/>
          <a:ext cx="871848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89000"/>
                    <a:ext cx="8718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 rot="20326800">
            <a:off x="1311840" y="258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79280" y="0"/>
          <a:ext cx="878544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7854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380880"/>
            <a:ext cx="695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l concetto di responsabi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429000"/>
            <a:ext cx="1600200" cy="83808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600200"/>
            <a:ext cx="1600200" cy="83808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29000"/>
            <a:ext cx="1600200" cy="83808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5105520"/>
            <a:ext cx="1600200" cy="83808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7360" y="1751040"/>
            <a:ext cx="1147680" cy="1299960"/>
          </a:xfrm>
          <a:custGeom>
            <a:avLst/>
            <a:gdLst/>
            <a:ahLst/>
            <a:rect l="l" t="t" r="r" b="b"/>
            <a:pathLst>
              <a:path w="723" h="819">
                <a:moveTo>
                  <a:pt x="722" y="231"/>
                </a:moveTo>
                <a:lnTo>
                  <a:pt x="506" y="0"/>
                </a:lnTo>
                <a:lnTo>
                  <a:pt x="506" y="111"/>
                </a:lnTo>
                <a:lnTo>
                  <a:pt x="416" y="111"/>
                </a:lnTo>
                <a:lnTo>
                  <a:pt x="374" y="114"/>
                </a:lnTo>
                <a:lnTo>
                  <a:pt x="332" y="117"/>
                </a:lnTo>
                <a:lnTo>
                  <a:pt x="293" y="126"/>
                </a:lnTo>
                <a:lnTo>
                  <a:pt x="254" y="139"/>
                </a:lnTo>
                <a:lnTo>
                  <a:pt x="183" y="169"/>
                </a:lnTo>
                <a:lnTo>
                  <a:pt x="123" y="213"/>
                </a:lnTo>
                <a:lnTo>
                  <a:pt x="96" y="240"/>
                </a:lnTo>
                <a:lnTo>
                  <a:pt x="72" y="265"/>
                </a:lnTo>
                <a:lnTo>
                  <a:pt x="51" y="295"/>
                </a:lnTo>
                <a:lnTo>
                  <a:pt x="33" y="326"/>
                </a:lnTo>
                <a:lnTo>
                  <a:pt x="18" y="357"/>
                </a:lnTo>
                <a:lnTo>
                  <a:pt x="9" y="391"/>
                </a:lnTo>
                <a:lnTo>
                  <a:pt x="3" y="425"/>
                </a:lnTo>
                <a:lnTo>
                  <a:pt x="0" y="461"/>
                </a:lnTo>
                <a:lnTo>
                  <a:pt x="0" y="818"/>
                </a:lnTo>
                <a:lnTo>
                  <a:pt x="216" y="818"/>
                </a:lnTo>
                <a:lnTo>
                  <a:pt x="216" y="461"/>
                </a:lnTo>
                <a:lnTo>
                  <a:pt x="219" y="440"/>
                </a:lnTo>
                <a:lnTo>
                  <a:pt x="231" y="418"/>
                </a:lnTo>
                <a:lnTo>
                  <a:pt x="249" y="400"/>
                </a:lnTo>
                <a:lnTo>
                  <a:pt x="275" y="385"/>
                </a:lnTo>
                <a:lnTo>
                  <a:pt x="305" y="369"/>
                </a:lnTo>
                <a:lnTo>
                  <a:pt x="338" y="360"/>
                </a:lnTo>
                <a:lnTo>
                  <a:pt x="377" y="354"/>
                </a:lnTo>
                <a:lnTo>
                  <a:pt x="416" y="351"/>
                </a:lnTo>
                <a:lnTo>
                  <a:pt x="506" y="351"/>
                </a:lnTo>
                <a:lnTo>
                  <a:pt x="506" y="461"/>
                </a:lnTo>
                <a:lnTo>
                  <a:pt x="722" y="231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8960" y="1676520"/>
            <a:ext cx="1305000" cy="1143000"/>
          </a:xfrm>
          <a:custGeom>
            <a:avLst/>
            <a:gdLst/>
            <a:ahLst/>
            <a:rect l="l" t="t" r="r" b="b"/>
            <a:pathLst>
              <a:path w="822" h="720">
                <a:moveTo>
                  <a:pt x="595" y="719"/>
                </a:moveTo>
                <a:lnTo>
                  <a:pt x="821" y="500"/>
                </a:lnTo>
                <a:lnTo>
                  <a:pt x="708" y="500"/>
                </a:lnTo>
                <a:lnTo>
                  <a:pt x="708" y="412"/>
                </a:lnTo>
                <a:lnTo>
                  <a:pt x="701" y="330"/>
                </a:lnTo>
                <a:lnTo>
                  <a:pt x="678" y="250"/>
                </a:lnTo>
                <a:lnTo>
                  <a:pt x="648" y="179"/>
                </a:lnTo>
                <a:lnTo>
                  <a:pt x="603" y="120"/>
                </a:lnTo>
                <a:lnTo>
                  <a:pt x="580" y="91"/>
                </a:lnTo>
                <a:lnTo>
                  <a:pt x="550" y="69"/>
                </a:lnTo>
                <a:lnTo>
                  <a:pt x="520" y="49"/>
                </a:lnTo>
                <a:lnTo>
                  <a:pt x="490" y="32"/>
                </a:lnTo>
                <a:lnTo>
                  <a:pt x="460" y="18"/>
                </a:lnTo>
                <a:lnTo>
                  <a:pt x="429" y="9"/>
                </a:lnTo>
                <a:lnTo>
                  <a:pt x="392" y="3"/>
                </a:lnTo>
                <a:lnTo>
                  <a:pt x="354" y="0"/>
                </a:lnTo>
                <a:lnTo>
                  <a:pt x="0" y="6"/>
                </a:lnTo>
                <a:lnTo>
                  <a:pt x="0" y="222"/>
                </a:lnTo>
                <a:lnTo>
                  <a:pt x="354" y="216"/>
                </a:lnTo>
                <a:lnTo>
                  <a:pt x="377" y="219"/>
                </a:lnTo>
                <a:lnTo>
                  <a:pt x="399" y="231"/>
                </a:lnTo>
                <a:lnTo>
                  <a:pt x="414" y="250"/>
                </a:lnTo>
                <a:lnTo>
                  <a:pt x="437" y="273"/>
                </a:lnTo>
                <a:lnTo>
                  <a:pt x="444" y="304"/>
                </a:lnTo>
                <a:lnTo>
                  <a:pt x="460" y="338"/>
                </a:lnTo>
                <a:lnTo>
                  <a:pt x="467" y="375"/>
                </a:lnTo>
                <a:lnTo>
                  <a:pt x="467" y="415"/>
                </a:lnTo>
                <a:lnTo>
                  <a:pt x="467" y="503"/>
                </a:lnTo>
                <a:lnTo>
                  <a:pt x="362" y="506"/>
                </a:lnTo>
                <a:lnTo>
                  <a:pt x="595" y="71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36720" y="4718160"/>
            <a:ext cx="1284480" cy="1170000"/>
          </a:xfrm>
          <a:custGeom>
            <a:avLst/>
            <a:gdLst/>
            <a:ahLst/>
            <a:rect l="l" t="t" r="r" b="b"/>
            <a:pathLst>
              <a:path w="809" h="737">
                <a:moveTo>
                  <a:pt x="233" y="0"/>
                </a:moveTo>
                <a:lnTo>
                  <a:pt x="0" y="208"/>
                </a:lnTo>
                <a:lnTo>
                  <a:pt x="110" y="214"/>
                </a:lnTo>
                <a:lnTo>
                  <a:pt x="107" y="303"/>
                </a:lnTo>
                <a:lnTo>
                  <a:pt x="107" y="344"/>
                </a:lnTo>
                <a:lnTo>
                  <a:pt x="113" y="386"/>
                </a:lnTo>
                <a:lnTo>
                  <a:pt x="119" y="427"/>
                </a:lnTo>
                <a:lnTo>
                  <a:pt x="129" y="463"/>
                </a:lnTo>
                <a:lnTo>
                  <a:pt x="160" y="534"/>
                </a:lnTo>
                <a:lnTo>
                  <a:pt x="201" y="594"/>
                </a:lnTo>
                <a:lnTo>
                  <a:pt x="252" y="647"/>
                </a:lnTo>
                <a:lnTo>
                  <a:pt x="311" y="689"/>
                </a:lnTo>
                <a:lnTo>
                  <a:pt x="377" y="712"/>
                </a:lnTo>
                <a:lnTo>
                  <a:pt x="446" y="724"/>
                </a:lnTo>
                <a:lnTo>
                  <a:pt x="802" y="736"/>
                </a:lnTo>
                <a:lnTo>
                  <a:pt x="808" y="516"/>
                </a:lnTo>
                <a:lnTo>
                  <a:pt x="450" y="511"/>
                </a:lnTo>
                <a:lnTo>
                  <a:pt x="428" y="505"/>
                </a:lnTo>
                <a:lnTo>
                  <a:pt x="409" y="493"/>
                </a:lnTo>
                <a:lnTo>
                  <a:pt x="390" y="475"/>
                </a:lnTo>
                <a:lnTo>
                  <a:pt x="374" y="451"/>
                </a:lnTo>
                <a:lnTo>
                  <a:pt x="362" y="422"/>
                </a:lnTo>
                <a:lnTo>
                  <a:pt x="352" y="386"/>
                </a:lnTo>
                <a:lnTo>
                  <a:pt x="346" y="350"/>
                </a:lnTo>
                <a:lnTo>
                  <a:pt x="346" y="309"/>
                </a:lnTo>
                <a:lnTo>
                  <a:pt x="349" y="220"/>
                </a:lnTo>
                <a:lnTo>
                  <a:pt x="459" y="220"/>
                </a:lnTo>
                <a:lnTo>
                  <a:pt x="233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94320" y="4570560"/>
            <a:ext cx="1162080" cy="1296720"/>
          </a:xfrm>
          <a:custGeom>
            <a:avLst/>
            <a:gdLst/>
            <a:ahLst/>
            <a:rect l="l" t="t" r="r" b="b"/>
            <a:pathLst>
              <a:path w="732" h="817">
                <a:moveTo>
                  <a:pt x="0" y="580"/>
                </a:moveTo>
                <a:lnTo>
                  <a:pt x="213" y="816"/>
                </a:lnTo>
                <a:lnTo>
                  <a:pt x="213" y="704"/>
                </a:lnTo>
                <a:lnTo>
                  <a:pt x="305" y="704"/>
                </a:lnTo>
                <a:lnTo>
                  <a:pt x="388" y="698"/>
                </a:lnTo>
                <a:lnTo>
                  <a:pt x="464" y="680"/>
                </a:lnTo>
                <a:lnTo>
                  <a:pt x="541" y="650"/>
                </a:lnTo>
                <a:lnTo>
                  <a:pt x="602" y="609"/>
                </a:lnTo>
                <a:lnTo>
                  <a:pt x="655" y="556"/>
                </a:lnTo>
                <a:lnTo>
                  <a:pt x="693" y="497"/>
                </a:lnTo>
                <a:lnTo>
                  <a:pt x="716" y="432"/>
                </a:lnTo>
                <a:lnTo>
                  <a:pt x="723" y="361"/>
                </a:lnTo>
                <a:lnTo>
                  <a:pt x="731" y="6"/>
                </a:lnTo>
                <a:lnTo>
                  <a:pt x="518" y="0"/>
                </a:lnTo>
                <a:lnTo>
                  <a:pt x="510" y="361"/>
                </a:lnTo>
                <a:lnTo>
                  <a:pt x="503" y="384"/>
                </a:lnTo>
                <a:lnTo>
                  <a:pt x="495" y="402"/>
                </a:lnTo>
                <a:lnTo>
                  <a:pt x="449" y="438"/>
                </a:lnTo>
                <a:lnTo>
                  <a:pt x="388" y="461"/>
                </a:lnTo>
                <a:lnTo>
                  <a:pt x="312" y="467"/>
                </a:lnTo>
                <a:lnTo>
                  <a:pt x="221" y="467"/>
                </a:lnTo>
                <a:lnTo>
                  <a:pt x="221" y="355"/>
                </a:lnTo>
                <a:lnTo>
                  <a:pt x="0" y="58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124080"/>
            <a:ext cx="1601640" cy="1373400"/>
          </a:xfrm>
          <a:custGeom>
            <a:avLst/>
            <a:gdLst/>
            <a:ahLst/>
            <a:rect l="l" t="t" r="r" b="b"/>
            <a:pathLst>
              <a:path w="1009" h="865">
                <a:moveTo>
                  <a:pt x="504" y="0"/>
                </a:moveTo>
                <a:lnTo>
                  <a:pt x="302" y="173"/>
                </a:lnTo>
                <a:lnTo>
                  <a:pt x="403" y="173"/>
                </a:lnTo>
                <a:lnTo>
                  <a:pt x="403" y="346"/>
                </a:lnTo>
                <a:lnTo>
                  <a:pt x="202" y="346"/>
                </a:lnTo>
                <a:lnTo>
                  <a:pt x="202" y="259"/>
                </a:lnTo>
                <a:lnTo>
                  <a:pt x="0" y="432"/>
                </a:lnTo>
                <a:lnTo>
                  <a:pt x="202" y="605"/>
                </a:lnTo>
                <a:lnTo>
                  <a:pt x="202" y="518"/>
                </a:lnTo>
                <a:lnTo>
                  <a:pt x="403" y="518"/>
                </a:lnTo>
                <a:lnTo>
                  <a:pt x="403" y="691"/>
                </a:lnTo>
                <a:lnTo>
                  <a:pt x="302" y="691"/>
                </a:lnTo>
                <a:lnTo>
                  <a:pt x="504" y="864"/>
                </a:lnTo>
                <a:lnTo>
                  <a:pt x="706" y="691"/>
                </a:lnTo>
                <a:lnTo>
                  <a:pt x="605" y="691"/>
                </a:lnTo>
                <a:lnTo>
                  <a:pt x="605" y="518"/>
                </a:lnTo>
                <a:lnTo>
                  <a:pt x="806" y="518"/>
                </a:lnTo>
                <a:lnTo>
                  <a:pt x="806" y="605"/>
                </a:lnTo>
                <a:lnTo>
                  <a:pt x="1008" y="432"/>
                </a:lnTo>
                <a:lnTo>
                  <a:pt x="806" y="259"/>
                </a:lnTo>
                <a:lnTo>
                  <a:pt x="806" y="346"/>
                </a:lnTo>
                <a:lnTo>
                  <a:pt x="605" y="346"/>
                </a:lnTo>
                <a:lnTo>
                  <a:pt x="605" y="173"/>
                </a:lnTo>
                <a:lnTo>
                  <a:pt x="706" y="173"/>
                </a:lnTo>
                <a:lnTo>
                  <a:pt x="504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2920" y="6548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03480" y="5318280"/>
            <a:ext cx="7711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380880"/>
            <a:ext cx="695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l percorso della responsabi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1447920"/>
            <a:ext cx="385920" cy="372960"/>
            <a:chOff x="380880" y="1447920"/>
            <a:chExt cx="385920" cy="372960"/>
          </a:xfrm>
        </p:grpSpPr>
        <p:sp>
          <p:nvSpPr>
            <p:cNvPr id="78" name=""/>
            <p:cNvSpPr/>
            <p:nvPr/>
          </p:nvSpPr>
          <p:spPr>
            <a:xfrm>
              <a:off x="492120" y="1566720"/>
              <a:ext cx="230040" cy="2124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380880" y="1447920"/>
            <a:ext cx="385920" cy="37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447920"/>
                      <a:ext cx="3859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399960" y="1974960"/>
            <a:ext cx="385920" cy="372960"/>
            <a:chOff x="399960" y="1974960"/>
            <a:chExt cx="385920" cy="372960"/>
          </a:xfrm>
        </p:grpSpPr>
        <p:sp>
          <p:nvSpPr>
            <p:cNvPr id="82" name=""/>
            <p:cNvSpPr/>
            <p:nvPr/>
          </p:nvSpPr>
          <p:spPr>
            <a:xfrm>
              <a:off x="511200" y="2093760"/>
              <a:ext cx="23004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399960" y="1974960"/>
            <a:ext cx="38592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960" y="1974960"/>
                      <a:ext cx="3859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" name=""/>
          <p:cNvGrpSpPr/>
          <p:nvPr/>
        </p:nvGrpSpPr>
        <p:grpSpPr>
          <a:xfrm>
            <a:off x="399960" y="2508120"/>
            <a:ext cx="385920" cy="373320"/>
            <a:chOff x="399960" y="2508120"/>
            <a:chExt cx="385920" cy="373320"/>
          </a:xfrm>
        </p:grpSpPr>
        <p:sp>
          <p:nvSpPr>
            <p:cNvPr id="86" name=""/>
            <p:cNvSpPr/>
            <p:nvPr/>
          </p:nvSpPr>
          <p:spPr>
            <a:xfrm>
              <a:off x="511200" y="2627280"/>
              <a:ext cx="23004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399960" y="2508120"/>
            <a:ext cx="385920" cy="37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9960" y="2508120"/>
                      <a:ext cx="38592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" name=""/>
          <p:cNvSpPr/>
          <p:nvPr/>
        </p:nvSpPr>
        <p:spPr>
          <a:xfrm>
            <a:off x="930240" y="1427040"/>
            <a:ext cx="726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9f"/>
                </a:solidFill>
                <a:latin typeface="Arial"/>
              </a:rPr>
              <a:t>Definizione dei Centri di Responsabilità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0240" y="197496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efinizione delle variabili-chiave della 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0240" y="250812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efinizione di indicatori-parametri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3048120"/>
            <a:ext cx="385560" cy="372960"/>
            <a:chOff x="380880" y="3048120"/>
            <a:chExt cx="385560" cy="372960"/>
          </a:xfrm>
        </p:grpSpPr>
        <p:sp>
          <p:nvSpPr>
            <p:cNvPr id="93" name=""/>
            <p:cNvSpPr/>
            <p:nvPr/>
          </p:nvSpPr>
          <p:spPr>
            <a:xfrm>
              <a:off x="491760" y="3167280"/>
              <a:ext cx="23040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380880" y="3048120"/>
            <a:ext cx="385560" cy="37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3048120"/>
                      <a:ext cx="3855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380880" y="3505320"/>
            <a:ext cx="385560" cy="372960"/>
            <a:chOff x="380880" y="3505320"/>
            <a:chExt cx="385560" cy="372960"/>
          </a:xfrm>
        </p:grpSpPr>
        <p:sp>
          <p:nvSpPr>
            <p:cNvPr id="97" name=""/>
            <p:cNvSpPr/>
            <p:nvPr/>
          </p:nvSpPr>
          <p:spPr>
            <a:xfrm>
              <a:off x="491760" y="3624120"/>
              <a:ext cx="230400" cy="2124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380880" y="3505320"/>
            <a:ext cx="385560" cy="37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3505320"/>
                      <a:ext cx="3855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380880" y="4038480"/>
            <a:ext cx="385560" cy="373320"/>
            <a:chOff x="380880" y="4038480"/>
            <a:chExt cx="385560" cy="373320"/>
          </a:xfrm>
        </p:grpSpPr>
        <p:sp>
          <p:nvSpPr>
            <p:cNvPr id="101" name=""/>
            <p:cNvSpPr/>
            <p:nvPr/>
          </p:nvSpPr>
          <p:spPr>
            <a:xfrm>
              <a:off x="491760" y="4157640"/>
              <a:ext cx="230400" cy="212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380880" y="4038480"/>
            <a:ext cx="385560" cy="373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0880" y="4038480"/>
                      <a:ext cx="3855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" name=""/>
          <p:cNvSpPr/>
          <p:nvPr/>
        </p:nvSpPr>
        <p:spPr>
          <a:xfrm>
            <a:off x="907920" y="2968560"/>
            <a:ext cx="726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9f"/>
                </a:solidFill>
                <a:latin typeface="Arial"/>
              </a:rPr>
              <a:t>Individuazione variabili chiave per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0532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ttribuzione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96252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isu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4572000"/>
            <a:ext cx="385920" cy="372960"/>
            <a:chOff x="380880" y="4572000"/>
            <a:chExt cx="385920" cy="372960"/>
          </a:xfrm>
        </p:grpSpPr>
        <p:sp>
          <p:nvSpPr>
            <p:cNvPr id="108" name=""/>
            <p:cNvSpPr/>
            <p:nvPr/>
          </p:nvSpPr>
          <p:spPr>
            <a:xfrm>
              <a:off x="492120" y="4691160"/>
              <a:ext cx="230040" cy="2124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80880" y="4572000"/>
            <a:ext cx="385920" cy="372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880" y="4572000"/>
                      <a:ext cx="3859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" name=""/>
          <p:cNvSpPr/>
          <p:nvPr/>
        </p:nvSpPr>
        <p:spPr>
          <a:xfrm>
            <a:off x="914400" y="4495680"/>
            <a:ext cx="718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5200" y="651996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3480" y="5318280"/>
            <a:ext cx="7711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2480" y="131760"/>
            <a:ext cx="695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 modello di obiettivi per i Com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43120" y="2411280"/>
            <a:ext cx="5643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38400" y="1106640"/>
            <a:ext cx="6681600" cy="1792080"/>
            <a:chOff x="1238400" y="1106640"/>
            <a:chExt cx="6681600" cy="1792080"/>
          </a:xfrm>
        </p:grpSpPr>
        <p:sp>
          <p:nvSpPr>
            <p:cNvPr id="117" name=""/>
            <p:cNvSpPr/>
            <p:nvPr/>
          </p:nvSpPr>
          <p:spPr>
            <a:xfrm>
              <a:off x="1276200" y="1106640"/>
              <a:ext cx="6572520" cy="1431720"/>
            </a:xfrm>
            <a:custGeom>
              <a:avLst/>
              <a:gdLst/>
              <a:ahLst/>
              <a:rect l="l" t="t" r="r" b="b"/>
              <a:pathLst>
                <a:path w="4140" h="902">
                  <a:moveTo>
                    <a:pt x="0" y="901"/>
                  </a:moveTo>
                  <a:lnTo>
                    <a:pt x="4139" y="901"/>
                  </a:lnTo>
                  <a:lnTo>
                    <a:pt x="2074" y="0"/>
                  </a:lnTo>
                  <a:lnTo>
                    <a:pt x="0" y="901"/>
                  </a:lnTo>
                </a:path>
              </a:pathLst>
            </a:custGeom>
            <a:noFill/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60400" y="1203480"/>
              <a:ext cx="5624640" cy="1209600"/>
            </a:xfrm>
            <a:custGeom>
              <a:avLst/>
              <a:gdLst/>
              <a:ahLst/>
              <a:rect l="l" t="t" r="r" b="b"/>
              <a:pathLst>
                <a:path w="3543" h="762">
                  <a:moveTo>
                    <a:pt x="0" y="761"/>
                  </a:moveTo>
                  <a:lnTo>
                    <a:pt x="3542" y="761"/>
                  </a:lnTo>
                  <a:lnTo>
                    <a:pt x="1776" y="0"/>
                  </a:lnTo>
                  <a:lnTo>
                    <a:pt x="0" y="761"/>
                  </a:lnTo>
                </a:path>
              </a:pathLst>
            </a:custGeom>
            <a:noFill/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38400" y="2649600"/>
              <a:ext cx="6681600" cy="71280"/>
            </a:xfrm>
            <a:prstGeom prst="rect">
              <a:avLst/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680" y="2808360"/>
              <a:ext cx="6437160" cy="90360"/>
            </a:xfrm>
            <a:prstGeom prst="rect">
              <a:avLst/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44680" y="5407200"/>
            <a:ext cx="6081480" cy="41256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FFICIENZA E QUALITÀ   DEI 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2520" y="5821200"/>
            <a:ext cx="6907320" cy="38736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45240" y="1731960"/>
            <a:ext cx="3058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ALORE  PER L’U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4480" y="5311800"/>
            <a:ext cx="1116360" cy="6516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44480" y="2951280"/>
            <a:ext cx="1116360" cy="6660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335240" y="3838680"/>
            <a:ext cx="171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VALORE PER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LLETTIVIT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3823920" y="3683520"/>
            <a:ext cx="1553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QUILIB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ECONOM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ANZ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960880" y="3833640"/>
            <a:ext cx="1607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VALORE 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L PERS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89280" y="5802480"/>
            <a:ext cx="53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VILUPP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ETENZE E INNO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5327640"/>
            <a:ext cx="1116000" cy="6516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6560" y="2967120"/>
            <a:ext cx="1116000" cy="6660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62320" y="3073320"/>
            <a:ext cx="795600" cy="22147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6600" y="5327640"/>
            <a:ext cx="1116000" cy="6516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86600" y="2967120"/>
            <a:ext cx="1116000" cy="66600"/>
          </a:xfrm>
          <a:prstGeom prst="rect">
            <a:avLst/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5560" y="3044880"/>
            <a:ext cx="795240" cy="221436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1600" y="3044880"/>
            <a:ext cx="795240" cy="221436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80880"/>
            <a:ext cx="5639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a struttura tecnico-cont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32120" y="1879560"/>
            <a:ext cx="1397160" cy="78732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9960" y="1879560"/>
            <a:ext cx="1396800" cy="78732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3680" y="1879560"/>
            <a:ext cx="1396800" cy="78732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879560"/>
            <a:ext cx="1397160" cy="78732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40680" y="2014560"/>
            <a:ext cx="1388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3200" y="2014560"/>
            <a:ext cx="1388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76640" y="1938240"/>
            <a:ext cx="1191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STEMA 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69840" y="2104920"/>
            <a:ext cx="64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7840" y="2282760"/>
            <a:ext cx="204840" cy="0"/>
          </a:xfrm>
          <a:prstGeom prst="line">
            <a:avLst/>
          </a:prstGeom>
          <a:ln w="255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99080" y="2244600"/>
            <a:ext cx="204840" cy="0"/>
          </a:xfrm>
          <a:prstGeom prst="line">
            <a:avLst/>
          </a:prstGeom>
          <a:ln w="255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60760" y="2263680"/>
            <a:ext cx="204840" cy="0"/>
          </a:xfrm>
          <a:prstGeom prst="line">
            <a:avLst/>
          </a:prstGeom>
          <a:ln w="255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165560"/>
            <a:ext cx="3962160" cy="78732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a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38360" y="2666880"/>
            <a:ext cx="496800" cy="1893960"/>
          </a:xfrm>
          <a:custGeom>
            <a:avLst/>
            <a:gdLst/>
            <a:ahLst/>
            <a:rect l="l" t="t" r="r" b="b"/>
            <a:pathLst>
              <a:path w="313" h="1193">
                <a:moveTo>
                  <a:pt x="0" y="0"/>
                </a:moveTo>
                <a:lnTo>
                  <a:pt x="0" y="1192"/>
                </a:lnTo>
                <a:lnTo>
                  <a:pt x="312" y="1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666880"/>
            <a:ext cx="1462320" cy="1893960"/>
          </a:xfrm>
          <a:custGeom>
            <a:avLst/>
            <a:gdLst/>
            <a:ahLst/>
            <a:rect l="l" t="t" r="r" b="b"/>
            <a:pathLst>
              <a:path w="921" h="1193">
                <a:moveTo>
                  <a:pt x="920" y="0"/>
                </a:moveTo>
                <a:lnTo>
                  <a:pt x="920" y="1192"/>
                </a:lnTo>
                <a:lnTo>
                  <a:pt x="0" y="1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733840"/>
            <a:ext cx="0" cy="14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733840"/>
            <a:ext cx="0" cy="14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5400" y="1301760"/>
            <a:ext cx="9055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1495440"/>
            <a:ext cx="739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OGGETT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BI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400" y="2063880"/>
            <a:ext cx="9055080" cy="425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257560"/>
            <a:ext cx="907740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-AN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DEFINIZIONE OBIETTIV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prendere coscienza di dove si vuole arriva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 in modo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re correttamente 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AN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ANALISI  SCOSTAMEN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prendere coscienza di dove si sta andand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 in modo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reggere il tir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 o spostare il bersag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-P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VALUTAZIONE RISULTATI             prendere coscienza di dove si è finiti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in modo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definire (meglio) gli obiettivi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.. e valutare le prestazioni de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760" y="2057400"/>
            <a:ext cx="90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760" y="3200400"/>
            <a:ext cx="9039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760" y="4800600"/>
            <a:ext cx="9039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36840" y="20732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13200" y="2073240"/>
            <a:ext cx="0" cy="423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36840" y="131112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04920"/>
            <a:ext cx="2514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l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Gli attori e le attività della valutazion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i risultati degli api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981080"/>
          <a:ext cx="7823160" cy="37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231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304920"/>
            <a:ext cx="609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Le “dimensioni” della valutazione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i risultati degli api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447920"/>
            <a:ext cx="2173320" cy="91440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819520"/>
            <a:ext cx="2173320" cy="91440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191120"/>
            <a:ext cx="2173320" cy="91440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486400"/>
            <a:ext cx="2173320" cy="914400"/>
          </a:xfrm>
          <a:prstGeom prst="roundRect">
            <a:avLst>
              <a:gd name="adj" fmla="val 1664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00" y="1595520"/>
            <a:ext cx="199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 pol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3400" y="3043080"/>
            <a:ext cx="199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n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400" y="4262400"/>
            <a:ext cx="199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3400" y="5557680"/>
            <a:ext cx="199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rt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1752480"/>
            <a:ext cx="533520" cy="304920"/>
          </a:xfrm>
          <a:prstGeom prst="rightArrow">
            <a:avLst>
              <a:gd name="adj1" fmla="val 50000"/>
              <a:gd name="adj2" fmla="val 4377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124080"/>
            <a:ext cx="533520" cy="304920"/>
          </a:xfrm>
          <a:prstGeom prst="rightArrow">
            <a:avLst>
              <a:gd name="adj1" fmla="val 50000"/>
              <a:gd name="adj2" fmla="val 4377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495680"/>
            <a:ext cx="533520" cy="304920"/>
          </a:xfrm>
          <a:prstGeom prst="rightArrow">
            <a:avLst>
              <a:gd name="adj1" fmla="val 50000"/>
              <a:gd name="adj2" fmla="val 4377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5791320"/>
            <a:ext cx="533520" cy="304560"/>
          </a:xfrm>
          <a:prstGeom prst="rightArrow">
            <a:avLst>
              <a:gd name="adj1" fmla="val 50000"/>
              <a:gd name="adj2" fmla="val 4382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447920"/>
            <a:ext cx="1990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tti -obiettivi di risul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86080" y="5557680"/>
            <a:ext cx="4581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zione comportamenti organizz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89548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240" y="289548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8160" y="335268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7320" y="3352680"/>
            <a:ext cx="11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21360" y="3276720"/>
            <a:ext cx="31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rot="16200000">
            <a:off x="5599440" y="4000320"/>
            <a:ext cx="380880" cy="304920"/>
          </a:xfrm>
          <a:prstGeom prst="rightArrow">
            <a:avLst>
              <a:gd name="adj1" fmla="val 50000"/>
              <a:gd name="adj2" fmla="val 31251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rot="16200000">
            <a:off x="7428240" y="4000320"/>
            <a:ext cx="380880" cy="304920"/>
          </a:xfrm>
          <a:prstGeom prst="rightArrow">
            <a:avLst>
              <a:gd name="adj1" fmla="val 50000"/>
              <a:gd name="adj2" fmla="val 31251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9080" y="4475160"/>
            <a:ext cx="97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449568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8T09:30:02Z</dcterms:created>
  <dc:creator>dasein srl</dc:creator>
  <dc:description/>
  <dc:language>en-US</dc:language>
  <cp:lastModifiedBy>gloria</cp:lastModifiedBy>
  <cp:lastPrinted>2000-04-03T17:14:25Z</cp:lastPrinted>
  <dcterms:modified xsi:type="dcterms:W3CDTF">2005-09-29T08:18:07Z</dcterms:modified>
  <cp:revision>60</cp:revision>
  <dc:subject/>
  <dc:title>Nessun titolo diapositiva</dc:title>
</cp:coreProperties>
</file>